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8529-6794-42E2-A36D-673C7844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649D-2ED9-46D9-B71E-5620202C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873A-9D34-4FF1-81F3-F9732097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B52D-49E8-4C1C-B5F0-BE939067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09B3-BE81-411D-A8F0-5C6D3CCB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0BC5-4685-4586-A195-D3664BDA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96CE-F3BE-48BC-8D43-253A1F50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C48A-6B97-4D23-8225-7ECC6FF5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80F-2D9F-4823-A247-CDF90F4B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8B8C-43EE-4BFE-9A69-47CDD0CB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DB9-C04D-4DA3-BE7E-F53A8D3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EDCA-49A8-4E68-A701-C72FFB9A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4E6C-7AAC-454F-8D93-2479C88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CF09-806D-46EC-B143-B98C2D11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1CD0-10BD-4A21-91BD-8BC6531C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2F81-62F3-433F-AEAD-9A851F45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625A-98F6-48A0-8DC3-A2FA8439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0D0D-98FB-44D3-9092-9670EBEE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A0EA-4032-4B76-982A-B0AE0976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0538-905C-4AA4-B43F-AB143DAA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C1A0-881B-4EB8-8741-0BF3AB35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8C75-E089-4D9C-96B1-EA6AC90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0B81-C57A-41EC-8ABD-553186C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3670-F10B-4A86-8ADA-02E69622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B62D-5D84-4A8A-BC84-258528E82C2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6021-F7C8-481C-8D87-6A277A1B1808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e5e5ff"/>
                </a:solidFill>
                <a:latin typeface="Garamond"/>
              </a:rPr>
              <a:t>MATTER:</a:t>
            </a:r>
            <a:br>
              <a:rPr sz="5400"/>
            </a:br>
            <a:r>
              <a:rPr b="1" lang="en-CA" sz="5400" spc="-1" strike="noStrike">
                <a:solidFill>
                  <a:srgbClr val="e5e5ff"/>
                </a:solidFill>
                <a:latin typeface="Garamond"/>
              </a:rPr>
              <a:t>Physical and Chemical Properties</a:t>
            </a:r>
            <a:br>
              <a:rPr sz="5400"/>
            </a:br>
            <a:r>
              <a:rPr b="1" lang="en-CA" sz="5400" spc="-1" strike="noStrike">
                <a:solidFill>
                  <a:srgbClr val="e5e5ff"/>
                </a:solidFill>
                <a:latin typeface="Garamond"/>
              </a:rPr>
              <a:t>(2016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2. Chem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Chemical properties are defined as characteristic behaviour that occurs when one substance reacts with another to form  new substanc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For example, oxygen reacts with hydrogen to form wat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5e5ff"/>
                </a:solidFill>
                <a:latin typeface="Garamond"/>
              </a:rPr>
              <a:t>Chemical Properties - Combustibil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re are 3 chemical properties to kn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Combustibilit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The ability of a substance to react with oxygen to produce carbon dioxide. For example, when gas is brought close to a flame, it ignites and burns forming new substan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6" descr="Natural-Gas-Flames-007"/>
          <p:cNvPicPr/>
          <p:nvPr/>
        </p:nvPicPr>
        <p:blipFill>
          <a:blip r:embed="rId1"/>
          <a:stretch/>
        </p:blipFill>
        <p:spPr>
          <a:xfrm>
            <a:off x="2050920" y="422928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5e5ff"/>
                </a:solidFill>
                <a:latin typeface="Garamond"/>
              </a:rPr>
              <a:t>Chemical Properties </a:t>
            </a:r>
            <a:br>
              <a:rPr sz="4000"/>
            </a:br>
            <a:r>
              <a:rPr b="1" lang="en-CA" sz="4000" spc="-1" strike="noStrike">
                <a:solidFill>
                  <a:srgbClr val="e5e5ff"/>
                </a:solidFill>
                <a:latin typeface="Garamond"/>
              </a:rPr>
              <a:t>– Reaction with Aci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0807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Reaction with acid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The ability of a substance to react with ac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r example, limestone reacts with acid to produce bubbles of gas which are a new subs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video of an egg “cooked” with aci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Garamond"/>
              </a:rPr>
              <a:t>http://www.youtube.com/watch?v=-8PFb9dOR8c&amp;feature=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Chemical Properties – Corro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Corrosion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is a slow chemical change that occurs when metal reacts with oxygen to form oxi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ShipsRusting"/>
          <p:cNvPicPr/>
          <p:nvPr/>
        </p:nvPicPr>
        <p:blipFill>
          <a:blip r:embed="rId1"/>
          <a:stretch/>
        </p:blipFill>
        <p:spPr>
          <a:xfrm>
            <a:off x="3995640" y="2852640"/>
            <a:ext cx="4981680" cy="33544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2708280"/>
            <a:ext cx="3708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r example, iron reacts with oxygen to form iron oxide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lso called rusting or tarni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036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5e5ff"/>
                </a:solidFill>
                <a:latin typeface="Garamond"/>
              </a:rPr>
              <a:t>How can physical &amp; chemical properties be used to identify substance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n unknown substance can be identified by testing its properties and comparing them to the properties of a known subs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lice find a white powder in a suspects car. How are physical and chemical properties usefu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http://inspiredreporters.com/wp-content/uploads/2015/11/Cocaine-sample-heaped-on-a-black-mirror-300x300.jpg"/>
          <p:cNvPicPr/>
          <p:nvPr/>
        </p:nvPicPr>
        <p:blipFill>
          <a:blip r:embed="rId1"/>
          <a:stretch/>
        </p:blipFill>
        <p:spPr>
          <a:xfrm>
            <a:off x="6227640" y="4221000"/>
            <a:ext cx="24973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Physical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 properties are observed with your senses or simple measurements that do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not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 change the substance.  For example, colour, texture, crystallinity, state, melting poi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Chemical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 properties are characteristic behaviours when one substance reacts to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produce a new substance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.  The 3 chemical properties are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combustibility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reaction with acid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CA" sz="3600" spc="-1" strike="noStrike">
                <a:solidFill>
                  <a:srgbClr val="ffffff"/>
                </a:solidFill>
                <a:latin typeface="Garamond"/>
              </a:rPr>
              <a:t>corrosion</a:t>
            </a: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Properties of mat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518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en you choose your clothes, your lunch, your shampoo, you make your choices based on the 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propertie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of mat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Propertie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are characteristics  that describe mat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types of properties used to describe matt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Physical prope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Chemical prope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3" name="Organization Chart 5"/>
          <p:cNvGrpSpPr/>
          <p:nvPr/>
        </p:nvGrpSpPr>
        <p:grpSpPr>
          <a:xfrm>
            <a:off x="4997520" y="1628640"/>
            <a:ext cx="4038120" cy="4524480"/>
            <a:chOff x="4997520" y="1628640"/>
            <a:chExt cx="4038120" cy="452448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7107120" y="3346200"/>
              <a:ext cx="905400" cy="1087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H="1" flipV="1" rot="5400000">
              <a:off x="6019920" y="3346560"/>
              <a:ext cx="905400" cy="1087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1030"/>
            <p:cNvSpPr/>
            <p:nvPr/>
          </p:nvSpPr>
          <p:spPr>
            <a:xfrm>
              <a:off x="6084360" y="162864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Garamond"/>
                </a:rPr>
                <a:t>Properties</a:t>
              </a:r>
              <a:endParaRPr b="0" lang="en-US" sz="3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Garamond"/>
                </a:rPr>
                <a:t>of matter</a:t>
              </a:r>
              <a:endParaRPr b="0" lang="en-US" sz="3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_s1031"/>
            <p:cNvSpPr/>
            <p:nvPr/>
          </p:nvSpPr>
          <p:spPr>
            <a:xfrm>
              <a:off x="4997520" y="434340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Garamond"/>
                </a:rPr>
                <a:t>Physical</a:t>
              </a:r>
              <a:endParaRPr b="0" lang="en-US" sz="3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7171920" y="434340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Garamond"/>
                </a:rPr>
                <a:t>Chemical</a:t>
              </a:r>
              <a:endParaRPr b="0" lang="en-US" sz="39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1. Phys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hysical properties are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characteristic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or descriptions that may help to identify a subs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hysical properties do </a:t>
            </a: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involve a substance becoming a new subs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any physical properties can be observed by our </a:t>
            </a: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sense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, for example colour, texture, odour, lustre, clarity, tas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human_body_five_senses"/>
          <p:cNvPicPr/>
          <p:nvPr/>
        </p:nvPicPr>
        <p:blipFill>
          <a:blip r:embed="rId1"/>
          <a:stretch/>
        </p:blipFill>
        <p:spPr>
          <a:xfrm>
            <a:off x="2195640" y="4846680"/>
            <a:ext cx="43196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e this liquid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5" descr="Maple-Syrup"/>
          <p:cNvPicPr/>
          <p:nvPr/>
        </p:nvPicPr>
        <p:blipFill>
          <a:blip r:embed="rId1"/>
          <a:stretch/>
        </p:blipFill>
        <p:spPr>
          <a:xfrm>
            <a:off x="2124000" y="1268280"/>
            <a:ext cx="5112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Important Phys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97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1. State of ma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olid (coins), liquid (water), gas (ai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2. Hardnes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- A measure of the resistance of a solid to being scratched or den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hich is hardest, Chalk, steel nails, diamond, glas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3. Malleabilit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The ability of matter to be hammered or bent into different shapes. For example, most metals are malleable, glass is not malleable because it shatters when hamme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scribe the state of matter, hardness and malleability of Playdough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5" descr="ANd9GcTNu_hJFMeXd9MFx83i1NMtsiNmDhjkYIB1Szidv577ckXCMcW8"/>
          <p:cNvPicPr/>
          <p:nvPr/>
        </p:nvPicPr>
        <p:blipFill>
          <a:blip r:embed="rId1"/>
          <a:stretch/>
        </p:blipFill>
        <p:spPr>
          <a:xfrm>
            <a:off x="2556000" y="191628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Other Phys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4. Ductilit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ability to be drawn out into long, thin wires.  For example, silver pulled into wi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5. Melting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Boiling Point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temperatures at which substances change st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olid to liquid: melting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liquid to gas: boiling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6. Crystal Form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: many solid minerals have repeating patterns in them. For example, salt crystals have tiny cub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substance is ductile?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substance is crystalline?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one has a lower melting point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5" descr="Buying_Diamonds"/>
          <p:cNvPicPr/>
          <p:nvPr/>
        </p:nvPicPr>
        <p:blipFill>
          <a:blip r:embed="rId1"/>
          <a:stretch/>
        </p:blipFill>
        <p:spPr>
          <a:xfrm>
            <a:off x="468360" y="2416320"/>
            <a:ext cx="36194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opper-Tube"/>
          <p:cNvPicPr/>
          <p:nvPr/>
        </p:nvPicPr>
        <p:blipFill>
          <a:blip r:embed="rId2"/>
          <a:stretch/>
        </p:blipFill>
        <p:spPr>
          <a:xfrm>
            <a:off x="5076720" y="2452680"/>
            <a:ext cx="3886200" cy="2916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11280" y="55134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am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076720" y="58737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pper Pi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More Physical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 u="sng">
                <a:solidFill>
                  <a:srgbClr val="ffffff"/>
                </a:solidFill>
                <a:uFillTx/>
                <a:latin typeface="Arial"/>
              </a:rPr>
              <a:t>7. Solubility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 – ability of a substance to dissolve in water. For example, salt is soluble in water, sand is not soluble in wat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 u="sng">
                <a:solidFill>
                  <a:srgbClr val="ffffff"/>
                </a:solidFill>
                <a:uFillTx/>
                <a:latin typeface="Arial"/>
              </a:rPr>
              <a:t>8. Viscosity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 – refers to how easily a </a:t>
            </a: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liquid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 flows. Molasses is more viscous than wat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be the viscosity of shampoo compared to wat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oluble is oil in wate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1:40:42Z</dcterms:created>
  <dc:creator>Calvin</dc:creator>
  <dc:description/>
  <dc:language>en-US</dc:language>
  <cp:lastModifiedBy>Murray, Ellen</cp:lastModifiedBy>
  <dcterms:modified xsi:type="dcterms:W3CDTF">2016-02-29T20:07:48Z</dcterms:modified>
  <cp:revision>74</cp:revision>
  <dc:subject/>
  <dc:title>Slide 1</dc:title>
</cp:coreProperties>
</file>